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1D6-F322-4E7D-A017-66B4160E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979-E946-431A-9B6B-32C2218A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7CA-BAE7-47EE-8C88-8B2AF2FA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9EF1-BAD4-46AB-A8EB-9FF92C92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2A5-4602-48CF-B83B-88A24A9D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704-9D8E-40D4-979F-96477298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87C-78AC-45C1-AC5A-32920487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08D-583E-417D-8B00-50BD66D3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6877-7736-4BDA-9A27-8288EB7D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5D9-836C-432D-B0FD-7866E17F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AEFF-F2FD-4D98-8A4D-AC89C7C9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4427-EB83-48BB-BE51-00A1A254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48B7-07B2-4C07-80CD-A22182700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slide7.xml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slide19.xml"/><Relationship Id="rId27" Type="http://schemas.openxmlformats.org/officeDocument/2006/relationships/slide" Target=""/><Relationship Id="rId28" Type="http://schemas.openxmlformats.org/officeDocument/2006/relationships/slide" Target="slide20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. Boiscl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lassification pertains to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lack a membrane bound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13816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PRO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rganelle receives materials from the endoplasm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iculum and sends them to other parts of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13816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LGI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lassification pertains to cells that have a membr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nd nucleus as well as specialized organel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EU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rganelle directs all of the cells activit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reprod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heory states three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All living things are composed of c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Cells are the basic unit of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unction in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All cells are made from other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CEL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ientist concluded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nimals are composed of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SCH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ientist was one of the first peopl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 single celled organisms we now called bacte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is LEEUWENH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an concluded that all plants are made of c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is SCHLE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chow concluded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13816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all cells are made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 one of the first people to observe c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is HO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4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5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9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0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strument uses tiny beams of electr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learly magnify im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one is able to distinguish individual parts of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it is said to have high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type of instrument that bends ligh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fy images and has *multiple* le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tructure helps in protec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giving structure to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CELL 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rganelle is a network of passageways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y materials from one part of the cell to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OPLASMIC RET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rganelle is much bigger in plant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in animal cells. It also aids in cell survi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VACU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rganelle which is the “powerhouse” of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ere cell energy is produc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28600"/>
            <a:ext cx="723888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iny factory like structures that produce prote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re RIB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cell is found in humans, dogs, turtles, 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ANIMAL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lasts and cell wall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in which type of ce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.</cp:lastModifiedBy>
  <cp:lastPrinted>2001-01-31T16:21:13Z</cp:lastPrinted>
  <dcterms:modified xsi:type="dcterms:W3CDTF">2008-02-23T00:54:49Z</dcterms:modified>
  <cp:revision>65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